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AD32-3062-4BA4-BF98-16B2D93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AD2C-9B5A-4621-83BD-7162200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88055-23EC-4598-82A2-1116763E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7D59B-8C7E-4387-82A1-5998ECDB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10917-1281-4DBA-82DE-79CD769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1564D-0173-4BED-8328-747F6B1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AD88-90C7-4A80-A26B-02AB39C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13CE8-41DA-4D6E-A39A-0D7D580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6EFC3-93C0-438D-AC96-C1B8A25C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27CE3-C774-48BB-9624-E36D0AAE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D9F8E-46EA-43AA-AED8-6BCB74C3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A985-1EF0-4DEC-ABE1-F46ED34C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026A-3FCC-44D5-BE03-0A1734DA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E14E4-C4B6-4A51-B713-C499AC6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F9A2-8839-4AF4-9F28-D7E70E8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6DD11-65F0-4E3A-A598-F17F87C9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B5C79-FE4E-44DA-9D4E-3B0BE07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1746C-CEA7-4BB3-9457-FE613AD5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2B82C-A754-4F70-B733-CA663BF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E958D-D736-4993-B3EB-0C8015B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1D2BD-0D54-4658-9EF7-C6AEE12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638CB-8893-4A1B-B4D3-FDC74F28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B9E49-F5FD-4DE7-B65A-05BF6073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BD10-448E-4356-9978-EAF7C73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4C85C-98CE-413A-8C69-A33FBEAC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FE5A5-0058-46A5-A376-C4E34DFD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D9263-FF36-4814-AA7A-EEAE2333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18A3-E81F-4C37-A13A-C04EDF14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C34D5-6834-47B5-A841-D7B466C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159FC-47BE-481B-8E53-BF6BBCB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866BC-AA5D-46B6-92EA-7C1A193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065D1-B04D-4F9C-B9B4-0024F23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3F22-1D0D-4892-A08D-FE30B0C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12BCF-5758-4517-B8A6-17696BA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48A-F669-460D-A77B-A033DD33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4AD46-53B6-4905-A802-310B5B09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7801B-2EEF-4A87-B8CE-B769C042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7301B-0F18-442C-A4AB-71036927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A93E7-5AC2-47ED-BF5A-88E4EB6A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80D13-2738-43BE-A8DE-DFFE1728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822CF-ABFF-465C-85D2-5D14CF0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3D3AA-86C9-4049-8116-8BE36904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EE49E-D8AC-4A4F-BCBE-083A120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66DEB-D8C8-4822-BF8A-91A2F59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9709D-8D62-43B7-8D82-C1A9B5B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D8AE-DD19-48F8-A1ED-3CC2640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41BB6-6531-4587-BD2B-624043B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48AEA-763A-4C0C-B311-BC5B13DA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FB852-CE33-45BC-9D47-375AD23E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C40F4-4A02-4ABD-A5FF-48A869B1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F4E25-CA93-4EAB-8E5C-1FF50DEE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50A1C-90E5-4070-93C2-FB371166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06938-4389-4FFA-8662-5E82653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67D9D-9ECC-405A-B5A4-F8CE971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4DD78-54B8-44FA-983A-0339C43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1C534-D358-4D55-A010-836258B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8B8-C4DC-4A2F-B434-9DE0B7E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CC5D8-8FAF-4B5E-96AD-34CD060E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64898-D6ED-42FD-BC77-D500CDD3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59D14-3685-4DB5-A98A-7F4EAB5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613C0-DA24-40C7-A389-2769677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EA69C-A4CE-40D1-B94C-E1436B7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8E159-378B-4D30-B984-571286B9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BC6C0-39E3-46BA-ACF4-8074E7EC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E78C8-A7EC-4B93-B862-7B9D4B15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14F62-682B-4F16-A174-9297695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018BC-BDE3-4FE1-B719-B1ECD5C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53D9-A6FC-4676-BCFF-027A7AC8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9E4D5-1861-43ED-B279-33F24BB2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AA195-80C2-41BF-A281-5CC1834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94C6D-1174-4148-A92B-2F354B1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78E39-96E3-42E5-8D5E-EC6EAF4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64E67-E595-4C9E-BAB5-AF45777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6AAC7-ABFE-478E-9B54-F77B542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54D23-AB3A-4250-B5DD-1BA9942C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F6911-EF3F-4703-AA21-A64D1DE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649C8-3A80-452B-8A55-41AC4160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840B-2D97-4CC8-A83B-E4C28DF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A87A-0A2A-4F19-8980-42FA1305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D45-A3B1-454D-A3D0-64837753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4AFC-C77E-48EF-A78E-FEF83B5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E73A-8053-474A-B321-66A5A30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B113-382F-4B5B-931C-C8AC4651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0BC-9BFB-4547-BDBC-BC030EB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2611-A49E-42A7-896A-42BD4194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D66-BD2D-4A86-B6DE-DC825C1E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BDA7-1788-4EAC-BCC8-4A9A45A5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D860-70C1-4F46-9980-0B1F8F97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055A-D45F-4B6B-ADD6-43F8DF1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04B1-EFF8-4347-BB22-58B5FA6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689D-4753-4121-ADDE-8B36078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80B3-71B2-4C1F-97EA-7011A87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456D-1131-43BA-99F9-6D6F4A6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07E0-74DF-4FF3-85BF-24466FD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FDBF-F137-46C3-9413-0037DEF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6EEA-4ED0-4CB8-8754-AE6E6D8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C3FD-0D28-4731-8397-41AFA27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0A0D-78D8-4233-9A25-2832E845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0CE3-76BC-452E-AAEB-9D880E0D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23ACC-10B3-4153-A51D-4758B4E1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0001A-5EE0-45A1-AB5D-91D3909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DBB2F-80E3-4F43-BBA4-97D7E692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E118-6354-41F1-856C-F180C9B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9D9CF-955C-4AA9-AC2D-9C41B3A9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E0569-36CD-450F-BB92-4F943CFA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3FA26-D076-44CB-A806-517976DC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7F666-2310-48CC-A241-91C263C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10B5B-B538-4489-A6E5-B13960B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9BE9D-9AC1-4C97-9D57-A9DDC6D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6D0AA-27F8-440C-A031-0BBE1C92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F4AF2-93E1-4850-BD96-679A712B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3DA44-039C-4010-9209-CFD4D617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8F1D-ADB9-438E-BA52-AEB10FFD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3E24-00D5-49C9-88E6-E2EDFFCE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A2C2-0022-47D2-BBBC-56C548BC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9A74-190C-4DA3-B350-53845444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090B-E8E3-4108-947C-24CBC3E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DD27-31B5-4F88-8D3E-44C4273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5DE2-98F3-4A64-B534-CD4D27BE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719A-5563-4449-A37F-559B62C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EBF4-A88F-4041-9DF0-F57F4B9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FCD1D-4DBF-479F-BF4B-FB1079B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171E-34AF-4292-91FE-A06FF7D3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ED6A-945A-43B9-9E3A-09B1637B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AD81-84AE-4FFC-A4CE-360260F6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0F78-3F14-4E0A-86E6-9F2A26B1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50003-DFD1-4361-A7CB-B8529787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0255-8CEE-424A-A11A-EFA4D65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28E7-A23F-4C17-A55D-9D14BDE1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8465-B8D0-4656-9C84-6947E3E7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642E-A800-4860-9C38-D3099C31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A4161-59F2-4153-AAAC-B07E0A4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61BA5-2EE4-46BA-8299-AA61417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F8695-6FCE-4E41-819C-6A374C9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7EA6-3D75-4089-9060-2288694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0F9D-6AF7-46BA-9356-576103B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5685-6642-4F22-A1E1-FB19CEC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E4CF-EA32-4542-BBD2-C2EB47AD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EBA3D-26A7-4F05-A717-2FAECBE7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F0DA6-0D38-4BBE-A187-FB100615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E97E4-AD77-4BFA-95E8-12C4D336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2653D-F07C-40E9-9890-A4B2548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8D4D9-2062-4255-9DEA-D1FDD90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E5A76-9964-4F67-911E-2039648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F422E-ECCD-48EC-B8D9-BAD770AD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F4BBC-8D72-47EA-B2B3-ED3DA85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8C13-4B7F-4B07-84FF-4F6F065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119AC-DF6C-4882-8FC7-9D13268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6F740-20EE-4C9C-AC14-BF625C3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3339E-B15E-44F7-ADA4-4DE98C5B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4AA37-6DE0-4162-91BA-0E741655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1DF8C-0F6D-4780-9EBE-A7BB1E5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7AE4-F3BD-4A93-95A0-329C2F47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B2D1-D268-4A1A-A5A9-4403D0BB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8C6CE-3CE3-41BD-91F6-903B110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5592B-5495-47A3-AF49-C2862D2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DC04-801B-44BF-B090-5A443A1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6A32-7883-457A-8E4B-FC9488F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E6B7E-3F9F-4169-90EF-CE16B654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4B9BA-9D47-4686-B7BA-FD927EB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FA66F-7246-408A-A35F-DC22115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2795-F36E-483A-9BF6-2F5BEEF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902E1-A4FA-4317-BC1F-EBA1277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0F48B-93F2-46E4-9FAB-188A27FB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BDD8-8554-4CF1-B76A-DDED4827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D6825-E773-4A5D-A505-4BB7AE45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22DF4-38C7-4053-9A90-D25D456A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03B17-AD13-4297-A7DD-96BF1B2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29A-91E2-44C6-B83E-137D7C31F7C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486C-76DD-4370-BDE2-806D0173EED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5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DFCA-0BC6-456C-945C-02A3492F0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391-E438-4131-8B22-9A876541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33A4-E171-4BD5-B2B8-69619DDDB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5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161B-9D3A-48C6-A6D1-05D1D1577D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22E7-F9AA-4DB4-9D95-871CF8C6D2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F453-B876-4A2A-9886-C75632E2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CF94-C207-45F9-83FD-A2A717A90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4DC-0BC6-4E1E-9C4C-E42EFED01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814-EFE4-46E1-8FD0-126C0177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6BB2-5633-4BFE-9412-BDFCFC475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816-89EF-4FAB-B90B-1BB2EEEEA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0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0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1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1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E62-7DF9-4E92-B76C-69AF0DC93D5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hyperactivethyroidtreatment.org/wp-content/uploads/2010/09/thyroid1.jpg&amp;imgrefurl=http://hyperactivethyroidtreatment.org/underactive-thyroid-treatment-discovery-modern-science&amp;usg=__jORJxtrzG9aA3i5urXl8s271kZY=&amp;h=426&amp;w=351&amp;sz=20&amp;hl=en&amp;start=7&amp;zoom=1&amp;itbs=1&amp;tbnid=tXkhrCuH2o9k3M:&amp;tbnh=126&amp;tbnw=104&amp;prev=/images%3Fq%3Dthyroid%26hl%3Den%26safe%3Dactive%26gbv%3D2%26tbs%3Disch:1&amp;ei=65NRTeLYJsT7lwfQ1JmKCQ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ustin Cohen, Manny Castillo,  Elizabeth DelGado, &amp; Kyle Ke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4191120" cy="426708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 txBox="1"/>
          <p:nvPr/>
        </p:nvSpPr>
        <p:spPr>
          <a:xfrm>
            <a:off x="2971800" y="2286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roid Gland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othic Std B"/>
              </a:rPr>
              <a:t>The thyroid gland is located In the front of the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2514600"/>
            <a:ext cx="3585960" cy="43434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 txBox="1"/>
          <p:nvPr/>
        </p:nvSpPr>
        <p:spPr>
          <a:xfrm>
            <a:off x="3048120" y="38088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o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hyroxine (T4) and Triiodothyronine (T3) are the hormones that are produced from the glands.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3 and T4 are then released into the blood stream and are transported throughout the body where they control metabolism (conversion of oxygen and calories to energy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1371600" y="1522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rmones Produced and function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 Black"/>
              </a:rPr>
              <a:t>When the level of thyroid hormones (T3 &amp; T4) drops too low, the pituitary gland produces Thyroid Stimulating Hormone (TSH) which stimulates the thyroid gland to produce more hormones.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2895480" y="228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rol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When the right amount of hormones are not produced the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pituitary gland</a:t>
            </a: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 starts the production of the hormones T3 &amp; T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When the right amount is produced the hypothalamus tells the pituitary glands to stop the thyroids from the production of T3 and T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895480" y="3049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edback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thyroid gland makes and stores hormones that help regulate the heart rate, blood pressure, and the body tempera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666880" y="1522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unctions in men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In women the thyroids controls the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590920" y="22860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unctions in w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Every cell in the body depends upon thyroid hormones for regulation of their metabolism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th out it you will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4114800" cy="375300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4"/>
          <a:stretch/>
        </p:blipFill>
        <p:spPr>
          <a:xfrm>
            <a:off x="380880" y="66294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 txBox="1"/>
          <p:nvPr/>
        </p:nvSpPr>
        <p:spPr>
          <a:xfrm>
            <a:off x="2743200" y="380880"/>
            <a:ext cx="4419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ason why it should stay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8:59:19Z</dcterms:created>
  <dc:creator>707959</dc:creator>
  <dc:description/>
  <dc:language>en-US</dc:language>
  <cp:lastModifiedBy>707959</cp:lastModifiedBy>
  <dcterms:modified xsi:type="dcterms:W3CDTF">2011-02-17T19:12:09Z</dcterms:modified>
  <cp:revision>21</cp:revision>
  <dc:subject/>
  <dc:title>Thyroid Gland</dc:title>
</cp:coreProperties>
</file>